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C87-E469-475F-9E49-A62FE4E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445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B29-9EDD-48CD-BFC3-4123D36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F6A-7026-4060-8746-777DA3CE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614-A35D-4CF1-98E4-6033C45C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26B0-E9F9-4BD3-81DD-773FC946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5718D-367F-41E8-9592-018BB7DD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D4D0-4A21-44B5-AC27-AC3ECAD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BF1CF-4948-40D0-8778-6BB0125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87A7E-1EE0-4C3C-A601-B2456FD7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3279F-216D-4FD1-B62D-E2317DD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E629-9DBC-4C22-93FF-5A8523B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06A-AB56-4A61-9F67-7211C11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0A80-895A-4434-ADA1-B155800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BF93D-34A4-4AA1-84B0-5E29339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445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EEDD-5E0C-4EC4-AAFB-B07F295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EA160-9CF5-42B9-89A4-F625082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445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EB141-47A4-4E1A-9C3F-43ABFC3B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57C-71C4-4131-A145-6A77305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59C-70B2-4080-AAF4-FCD65908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06-A7AA-4381-B97D-4DD956CD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F31-7566-42F9-9ED7-E156B26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693-B63B-4917-B4F5-F78E4E1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445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3BA-A02F-418F-AC9B-5022832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445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99F-6367-4563-8750-E6FFD1D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C104-D1EB-4936-B6EA-0E24419B64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3680" y="692280"/>
            <a:ext cx="8216640" cy="63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3333cc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3680" y="844560"/>
            <a:ext cx="8216640" cy="63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3333cc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8F0-90D9-4FB6-AED5-48508BEA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B20-42E6-4A1A-9FB1-20C23C5868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arnaugh map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t time we saw applications of Boolean logic to circuit desig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basic Boolean operations are AND, OR and NO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operations can be combined to form complex expressions, which can also be directly translated into a hardware circu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olean algebra helps us simplify expressions and circui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ay we’ll look at a graphical technique for simplifying an expression into 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minimal sum of produc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(MSP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m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are a minimal number of product terms in the expres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erm has a minimal number of litera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rcuit-wise, this leads to a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minim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wo-level implement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Object 2052"/>
          <p:cNvGraphicFramePr/>
          <p:nvPr/>
        </p:nvGraphicFramePr>
        <p:xfrm>
          <a:off x="3048120" y="4343400"/>
          <a:ext cx="3114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0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343400"/>
                    <a:ext cx="3114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27E7-F6CE-48EF-BD15-E7F72EBF47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K-map simplificatio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consider simplifying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f(x,y,z) = xy + y’z + x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, you should convert the expression into a sum of minterms form, if it’s not already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easiest way to do this is to make a truth table for the function, and then read off the minter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either write out the literals or use the minterm shorthan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 is the truth table and sum of minterms for our exampl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1371600" y="3352680"/>
            <a:ext cx="6400800" cy="2857320"/>
            <a:chOff x="1371600" y="3352680"/>
            <a:chExt cx="6400800" cy="2857320"/>
          </a:xfrm>
        </p:grpSpPr>
        <p:graphicFrame>
          <p:nvGraphicFramePr>
            <p:cNvPr id="203" name="Object 4"/>
            <p:cNvGraphicFramePr/>
            <p:nvPr/>
          </p:nvGraphicFramePr>
          <p:xfrm>
            <a:off x="1371600" y="3352680"/>
            <a:ext cx="2227320" cy="2857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3352680"/>
                      <a:ext cx="2227320" cy="28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5"/>
            <p:cNvSpPr/>
            <p:nvPr/>
          </p:nvSpPr>
          <p:spPr>
            <a:xfrm>
              <a:off x="3962520" y="4460760"/>
              <a:ext cx="38098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7640"/>
                  <a:tab algn="l" pos="1197000"/>
                  <a:tab algn="l" pos="1660680"/>
                  <a:tab algn="l" pos="1940040"/>
                  <a:tab algn="l" pos="2341440"/>
                  <a:tab algn="l" pos="2630520"/>
                  <a:tab algn="l" pos="2971800"/>
                  <a:tab algn="l" pos="3259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(x,y,z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1800" spc="-1" strike="noStrike">
                  <a:solidFill>
                    <a:srgbClr val="3333ff"/>
                  </a:solidFill>
                  <a:latin typeface="Comic Sans MS"/>
                </a:rPr>
                <a:t>x’y’z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1800" spc="-1" strike="noStrike">
                  <a:solidFill>
                    <a:srgbClr val="ff33cc"/>
                  </a:solidFill>
                  <a:latin typeface="Comic Sans MS"/>
                </a:rPr>
                <a:t>xy’z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1800" spc="-1" strike="noStrike">
                  <a:solidFill>
                    <a:srgbClr val="ff0033"/>
                  </a:solidFill>
                  <a:latin typeface="Comic Sans MS"/>
                </a:rPr>
                <a:t>xyz’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1800" spc="-1" strike="noStrike">
                  <a:solidFill>
                    <a:srgbClr val="336600"/>
                  </a:solidFill>
                  <a:latin typeface="Comic Sans MS"/>
                </a:rPr>
                <a:t>xy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7640"/>
                  <a:tab algn="l" pos="1197000"/>
                  <a:tab algn="l" pos="1660680"/>
                  <a:tab algn="l" pos="1940040"/>
                  <a:tab algn="l" pos="2341440"/>
                  <a:tab algn="l" pos="2630520"/>
                  <a:tab algn="l" pos="2971800"/>
                  <a:tab algn="l" pos="3259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3333ff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33ff"/>
                  </a:solidFill>
                  <a:latin typeface="Comic Sans MS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33cc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33cc"/>
                  </a:solidFill>
                  <a:latin typeface="Comic Sans MS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00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0033"/>
                  </a:solidFill>
                  <a:latin typeface="Comic Sans MS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66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8D6-BE51-45BF-BE74-A2CEF992E0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simplifying expression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0840" indent="-330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also convert the expression to a sum of minterms with Boolean algebr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y the distributive law in reverse to add in missing vari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few people actually do this, but it’s occasionally usefu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buNone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both cases, we’re actually “unsimplifying” our example expres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sulting expression is larger than the original 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803160"/>
                <a:tab algn="l" pos="160488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having all the individual minterms makes it easy to combine them together with the K-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59520" y="243828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 + y’z + xz = (x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) + (y’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) + (x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(x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z’ + z)) + (y’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x’ + x)) + (x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y’ + y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(xyz’ + xyz) + (x’y’z + xy’z) + (xy’z + xyz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yz’ + xyz + x’y’z + xy’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30A-D207-40C5-8463-D51EBFC759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ing the example K-ma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up is drawing and filling in the K-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t 1s in the map for each minterm, and 0s in the other squar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use either the minterm products or the shorthand to show you where the 1s and 0s belo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our example, we can write f(x,y,z) in two equivalent way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either case, the resulting K-map is shown below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Object 8"/>
          <p:cNvGraphicFramePr/>
          <p:nvPr/>
        </p:nvGraphicFramePr>
        <p:xfrm>
          <a:off x="2743200" y="4952880"/>
          <a:ext cx="3625920" cy="140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952880"/>
                    <a:ext cx="36259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3"/>
          <p:cNvGrpSpPr/>
          <p:nvPr/>
        </p:nvGrpSpPr>
        <p:grpSpPr>
          <a:xfrm>
            <a:off x="1143000" y="2590920"/>
            <a:ext cx="3660840" cy="1846080"/>
            <a:chOff x="1143000" y="2590920"/>
            <a:chExt cx="3660840" cy="1846080"/>
          </a:xfrm>
        </p:grpSpPr>
        <p:graphicFrame>
          <p:nvGraphicFramePr>
            <p:cNvPr id="220" name="Object 5"/>
            <p:cNvGraphicFramePr/>
            <p:nvPr/>
          </p:nvGraphicFramePr>
          <p:xfrm>
            <a:off x="1143000" y="3048120"/>
            <a:ext cx="3660840" cy="13888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2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048120"/>
                      <a:ext cx="3660840" cy="13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Text Box 10"/>
            <p:cNvSpPr/>
            <p:nvPr/>
          </p:nvSpPr>
          <p:spPr>
            <a:xfrm>
              <a:off x="1270080" y="2590920"/>
              <a:ext cx="34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(x,y,z) = </a:t>
              </a:r>
              <a:r>
                <a:rPr b="0" lang="en-US" sz="1800" spc="-1" strike="noStrike">
                  <a:solidFill>
                    <a:srgbClr val="3333ff"/>
                  </a:solidFill>
                  <a:latin typeface="Comic Sans MS"/>
                </a:rPr>
                <a:t>x’y’z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ff33cc"/>
                  </a:solidFill>
                  <a:latin typeface="Comic Sans MS"/>
                </a:rPr>
                <a:t>xy’z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ff0033"/>
                  </a:solidFill>
                  <a:latin typeface="Comic Sans MS"/>
                </a:rPr>
                <a:t>xyz’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336600"/>
                  </a:solidFill>
                  <a:latin typeface="Comic Sans MS"/>
                </a:rPr>
                <a:t>xy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5257440" y="2590920"/>
            <a:ext cx="3023640" cy="1803240"/>
            <a:chOff x="5257440" y="2590920"/>
            <a:chExt cx="3023640" cy="1803240"/>
          </a:xfrm>
        </p:grpSpPr>
        <p:graphicFrame>
          <p:nvGraphicFramePr>
            <p:cNvPr id="224" name="Object 9"/>
            <p:cNvGraphicFramePr/>
            <p:nvPr/>
          </p:nvGraphicFramePr>
          <p:xfrm>
            <a:off x="5327640" y="3048120"/>
            <a:ext cx="2884680" cy="1346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2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27640" y="3048120"/>
                      <a:ext cx="2884680" cy="13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Text Box 11"/>
            <p:cNvSpPr/>
            <p:nvPr/>
          </p:nvSpPr>
          <p:spPr>
            <a:xfrm>
              <a:off x="5257440" y="2590920"/>
              <a:ext cx="30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(x,y,z) = </a:t>
              </a:r>
              <a:r>
                <a:rPr b="0" lang="en-US" sz="1800" spc="-1" strike="noStrike">
                  <a:solidFill>
                    <a:srgbClr val="3333ff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33ff"/>
                  </a:solidFill>
                  <a:latin typeface="Comic Sans MS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ff33cc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33cc"/>
                  </a:solidFill>
                  <a:latin typeface="Comic Sans MS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ff00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0033"/>
                  </a:solidFill>
                  <a:latin typeface="Comic Sans MS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18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66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741-4617-4BF2-89B2-A3E7C39E25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-maps from truth tab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also fill in the K-map directly from a truth tab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utput in row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table goes into squar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K-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ember that the rightmost columns of the K-map are “switched.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2" name="Object 8"/>
          <p:cNvGraphicFramePr/>
          <p:nvPr/>
        </p:nvGraphicFramePr>
        <p:xfrm>
          <a:off x="5408640" y="1984320"/>
          <a:ext cx="2884320" cy="13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8640" y="1984320"/>
                    <a:ext cx="288432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34"/>
          <p:cNvGrpSpPr/>
          <p:nvPr/>
        </p:nvGrpSpPr>
        <p:grpSpPr>
          <a:xfrm>
            <a:off x="1224000" y="2359080"/>
            <a:ext cx="5906880" cy="4133880"/>
            <a:chOff x="1224000" y="2359080"/>
            <a:chExt cx="5906880" cy="4133880"/>
          </a:xfrm>
        </p:grpSpPr>
        <p:graphicFrame>
          <p:nvGraphicFramePr>
            <p:cNvPr id="235" name="Object 5"/>
            <p:cNvGraphicFramePr/>
            <p:nvPr/>
          </p:nvGraphicFramePr>
          <p:xfrm>
            <a:off x="1224000" y="2359080"/>
            <a:ext cx="2324160" cy="41338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24000" y="2359080"/>
                      <a:ext cx="2324160" cy="41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Object 7"/>
            <p:cNvGraphicFramePr/>
            <p:nvPr/>
          </p:nvGraphicFramePr>
          <p:xfrm>
            <a:off x="3505320" y="3808440"/>
            <a:ext cx="3625560" cy="140652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3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5320" y="3808440"/>
                      <a:ext cx="3625560" cy="14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9" name="Group 29"/>
            <p:cNvGrpSpPr/>
            <p:nvPr/>
          </p:nvGrpSpPr>
          <p:grpSpPr>
            <a:xfrm>
              <a:off x="3429000" y="2817720"/>
              <a:ext cx="990720" cy="1219320"/>
              <a:chOff x="3429000" y="2817720"/>
              <a:chExt cx="990720" cy="1219320"/>
            </a:xfrm>
          </p:grpSpPr>
          <p:sp>
            <p:nvSpPr>
              <p:cNvPr id="240" name="Line 9"/>
              <p:cNvSpPr/>
              <p:nvPr/>
            </p:nvSpPr>
            <p:spPr>
              <a:xfrm>
                <a:off x="3429000" y="2817720"/>
                <a:ext cx="99072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13"/>
              <p:cNvSpPr/>
              <p:nvPr/>
            </p:nvSpPr>
            <p:spPr>
              <a:xfrm>
                <a:off x="4419720" y="2817720"/>
                <a:ext cx="0" cy="121932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30"/>
            <p:cNvGrpSpPr/>
            <p:nvPr/>
          </p:nvGrpSpPr>
          <p:grpSpPr>
            <a:xfrm>
              <a:off x="3429000" y="3122640"/>
              <a:ext cx="1752480" cy="914400"/>
              <a:chOff x="3429000" y="3122640"/>
              <a:chExt cx="1752480" cy="914400"/>
            </a:xfrm>
          </p:grpSpPr>
          <p:sp>
            <p:nvSpPr>
              <p:cNvPr id="243" name="Line 10"/>
              <p:cNvSpPr/>
              <p:nvPr/>
            </p:nvSpPr>
            <p:spPr>
              <a:xfrm>
                <a:off x="3429000" y="3122640"/>
                <a:ext cx="175248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4"/>
              <p:cNvSpPr/>
              <p:nvPr/>
            </p:nvSpPr>
            <p:spPr>
              <a:xfrm>
                <a:off x="5181480" y="3122640"/>
                <a:ext cx="0" cy="91440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31"/>
            <p:cNvGrpSpPr/>
            <p:nvPr/>
          </p:nvGrpSpPr>
          <p:grpSpPr>
            <a:xfrm>
              <a:off x="3429000" y="3427560"/>
              <a:ext cx="3200400" cy="609480"/>
              <a:chOff x="3429000" y="3427560"/>
              <a:chExt cx="3200400" cy="609480"/>
            </a:xfrm>
          </p:grpSpPr>
          <p:sp>
            <p:nvSpPr>
              <p:cNvPr id="246" name="Line 11"/>
              <p:cNvSpPr/>
              <p:nvPr/>
            </p:nvSpPr>
            <p:spPr>
              <a:xfrm>
                <a:off x="3429000" y="3427560"/>
                <a:ext cx="320040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15"/>
              <p:cNvSpPr/>
              <p:nvPr/>
            </p:nvSpPr>
            <p:spPr>
              <a:xfrm>
                <a:off x="6629400" y="3427560"/>
                <a:ext cx="0" cy="60948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8" name="Group 32"/>
            <p:cNvGrpSpPr/>
            <p:nvPr/>
          </p:nvGrpSpPr>
          <p:grpSpPr>
            <a:xfrm>
              <a:off x="3429000" y="3732120"/>
              <a:ext cx="2438280" cy="304920"/>
              <a:chOff x="3429000" y="3732120"/>
              <a:chExt cx="2438280" cy="304920"/>
            </a:xfrm>
          </p:grpSpPr>
          <p:sp>
            <p:nvSpPr>
              <p:cNvPr id="249" name="Line 12"/>
              <p:cNvSpPr/>
              <p:nvPr/>
            </p:nvSpPr>
            <p:spPr>
              <a:xfrm>
                <a:off x="3429000" y="3732120"/>
                <a:ext cx="243828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16"/>
              <p:cNvSpPr/>
              <p:nvPr/>
            </p:nvSpPr>
            <p:spPr>
              <a:xfrm>
                <a:off x="5867280" y="3732120"/>
                <a:ext cx="0" cy="30492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" name="Group 28"/>
            <p:cNvGrpSpPr/>
            <p:nvPr/>
          </p:nvGrpSpPr>
          <p:grpSpPr>
            <a:xfrm>
              <a:off x="3429000" y="4722840"/>
              <a:ext cx="990720" cy="380880"/>
              <a:chOff x="3429000" y="4722840"/>
              <a:chExt cx="990720" cy="380880"/>
            </a:xfrm>
          </p:grpSpPr>
          <p:sp>
            <p:nvSpPr>
              <p:cNvPr id="252" name="Line 17"/>
              <p:cNvSpPr/>
              <p:nvPr/>
            </p:nvSpPr>
            <p:spPr>
              <a:xfrm>
                <a:off x="3429000" y="5103720"/>
                <a:ext cx="99072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21"/>
              <p:cNvSpPr/>
              <p:nvPr/>
            </p:nvSpPr>
            <p:spPr>
              <a:xfrm flipV="1">
                <a:off x="4419720" y="4722840"/>
                <a:ext cx="0" cy="38088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4" name="Group 27"/>
            <p:cNvGrpSpPr/>
            <p:nvPr/>
          </p:nvGrpSpPr>
          <p:grpSpPr>
            <a:xfrm>
              <a:off x="3429000" y="4722480"/>
              <a:ext cx="1752480" cy="686160"/>
              <a:chOff x="3429000" y="4722480"/>
              <a:chExt cx="1752480" cy="686160"/>
            </a:xfrm>
          </p:grpSpPr>
          <p:sp>
            <p:nvSpPr>
              <p:cNvPr id="255" name="Line 18"/>
              <p:cNvSpPr/>
              <p:nvPr/>
            </p:nvSpPr>
            <p:spPr>
              <a:xfrm>
                <a:off x="3429000" y="5408640"/>
                <a:ext cx="175248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 flipV="1">
                <a:off x="5181480" y="4722480"/>
                <a:ext cx="0" cy="68580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7" name="Group 25"/>
            <p:cNvGrpSpPr/>
            <p:nvPr/>
          </p:nvGrpSpPr>
          <p:grpSpPr>
            <a:xfrm>
              <a:off x="3429000" y="4722480"/>
              <a:ext cx="3200400" cy="990720"/>
              <a:chOff x="3429000" y="4722480"/>
              <a:chExt cx="3200400" cy="990720"/>
            </a:xfrm>
          </p:grpSpPr>
          <p:sp>
            <p:nvSpPr>
              <p:cNvPr id="258" name="Line 19"/>
              <p:cNvSpPr/>
              <p:nvPr/>
            </p:nvSpPr>
            <p:spPr>
              <a:xfrm>
                <a:off x="3429000" y="5713200"/>
                <a:ext cx="320040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Line 23"/>
              <p:cNvSpPr/>
              <p:nvPr/>
            </p:nvSpPr>
            <p:spPr>
              <a:xfrm flipV="1">
                <a:off x="6629400" y="4722480"/>
                <a:ext cx="0" cy="99036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0" name="Group 26"/>
            <p:cNvGrpSpPr/>
            <p:nvPr/>
          </p:nvGrpSpPr>
          <p:grpSpPr>
            <a:xfrm>
              <a:off x="3429000" y="4722840"/>
              <a:ext cx="2438280" cy="1295280"/>
              <a:chOff x="3429000" y="4722840"/>
              <a:chExt cx="2438280" cy="1295280"/>
            </a:xfrm>
          </p:grpSpPr>
          <p:sp>
            <p:nvSpPr>
              <p:cNvPr id="261" name="Line 20"/>
              <p:cNvSpPr/>
              <p:nvPr/>
            </p:nvSpPr>
            <p:spPr>
              <a:xfrm>
                <a:off x="3429000" y="6018120"/>
                <a:ext cx="243828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Line 24"/>
              <p:cNvSpPr/>
              <p:nvPr/>
            </p:nvSpPr>
            <p:spPr>
              <a:xfrm flipV="1">
                <a:off x="5867280" y="4722840"/>
                <a:ext cx="0" cy="129528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328F-4D22-4135-BC8B-BC079810FB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ing the minterms togeth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23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difficult step is grouping together all the 1s in the K-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rectangl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ound groups of one, two, four or eight 1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of the 1s in the map should be included in at least one rectangl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 any of the 0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group corresponds to one product term. For the simplest resul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as few rectangles as possible, to minimize the number of products in the final expres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each rectangle as large as possible, to minimize the number of literals in each ter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all right for rectangles to overlap, if that makes them larg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2743200" y="2438280"/>
            <a:ext cx="3645000" cy="1398600"/>
            <a:chOff x="2743200" y="2438280"/>
            <a:chExt cx="3645000" cy="1398600"/>
          </a:xfrm>
        </p:grpSpPr>
        <p:graphicFrame>
          <p:nvGraphicFramePr>
            <p:cNvPr id="269" name="Object 4"/>
            <p:cNvGraphicFramePr/>
            <p:nvPr/>
          </p:nvGraphicFramePr>
          <p:xfrm>
            <a:off x="2743200" y="2438280"/>
            <a:ext cx="3645000" cy="1398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7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2438280"/>
                      <a:ext cx="364500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Rectangle 5"/>
            <p:cNvSpPr/>
            <p:nvPr/>
          </p:nvSpPr>
          <p:spPr>
            <a:xfrm>
              <a:off x="4073400" y="2754000"/>
              <a:ext cx="619200" cy="527040"/>
            </a:xfrm>
            <a:prstGeom prst="rect">
              <a:avLst/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4818240" y="3060360"/>
              <a:ext cx="1266480" cy="222480"/>
            </a:xfrm>
            <a:prstGeom prst="rect">
              <a:avLst/>
            </a:prstGeom>
            <a:noFill/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3789-E426-4D75-97DF-E1E9BDBA02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ding the MSP from the K-ma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23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ally, you can find the MS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rectangle corresponds to one product ter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roduct is determined by finding the common literals in that rectang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our example, we find that xy + y’z + xz =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y’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(This is one of the additional algebraic laws from last time.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2587680" y="3809880"/>
            <a:ext cx="3643200" cy="1328760"/>
            <a:chOff x="2587680" y="3809880"/>
            <a:chExt cx="3643200" cy="1328760"/>
          </a:xfrm>
        </p:grpSpPr>
        <p:graphicFrame>
          <p:nvGraphicFramePr>
            <p:cNvPr id="279" name="Object 5"/>
            <p:cNvGraphicFramePr/>
            <p:nvPr/>
          </p:nvGraphicFramePr>
          <p:xfrm>
            <a:off x="2587680" y="3809880"/>
            <a:ext cx="3643200" cy="1328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8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87680" y="3809880"/>
                      <a:ext cx="3643200" cy="13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Rectangle 8"/>
            <p:cNvSpPr/>
            <p:nvPr/>
          </p:nvSpPr>
          <p:spPr>
            <a:xfrm>
              <a:off x="3925800" y="4130640"/>
              <a:ext cx="617040" cy="536760"/>
            </a:xfrm>
            <a:prstGeom prst="rect">
              <a:avLst/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>
              <a:off x="4655880" y="4429080"/>
              <a:ext cx="1301400" cy="228600"/>
            </a:xfrm>
            <a:prstGeom prst="rect">
              <a:avLst/>
            </a:prstGeom>
            <a:noFill/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10"/>
          <p:cNvGrpSpPr/>
          <p:nvPr/>
        </p:nvGrpSpPr>
        <p:grpSpPr>
          <a:xfrm>
            <a:off x="2587680" y="2286000"/>
            <a:ext cx="3645000" cy="1398600"/>
            <a:chOff x="2587680" y="2286000"/>
            <a:chExt cx="3645000" cy="1398600"/>
          </a:xfrm>
        </p:grpSpPr>
        <p:graphicFrame>
          <p:nvGraphicFramePr>
            <p:cNvPr id="284" name="Object 11"/>
            <p:cNvGraphicFramePr/>
            <p:nvPr/>
          </p:nvGraphicFramePr>
          <p:xfrm>
            <a:off x="2587680" y="2286000"/>
            <a:ext cx="3645000" cy="1398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5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87680" y="2286000"/>
                      <a:ext cx="364500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Rectangle 12"/>
            <p:cNvSpPr/>
            <p:nvPr/>
          </p:nvSpPr>
          <p:spPr>
            <a:xfrm>
              <a:off x="3917880" y="2601720"/>
              <a:ext cx="619200" cy="527040"/>
            </a:xfrm>
            <a:prstGeom prst="rect">
              <a:avLst/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662720" y="2908080"/>
              <a:ext cx="1266480" cy="222480"/>
            </a:xfrm>
            <a:prstGeom prst="rect">
              <a:avLst/>
            </a:prstGeom>
            <a:noFill/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036-A8A2-4468-BCE7-E2FC239652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ctice K-map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ify the sum of minterms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2819520" y="1523880"/>
          <a:ext cx="348300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34830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2743200" y="3886200"/>
          <a:ext cx="4029120" cy="15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86200"/>
                    <a:ext cx="402912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F67-3D7F-4E80-BD9C-BE84672BDD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utions for practice K-map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 is the filled in K-map, with all groups show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genta and green groups overlap, which makes each of them as large as possib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term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in a group all by its loneso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nal MSP here is 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x’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y’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y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17"/>
          <p:cNvGrpSpPr/>
          <p:nvPr/>
        </p:nvGrpSpPr>
        <p:grpSpPr>
          <a:xfrm>
            <a:off x="2743200" y="2362320"/>
            <a:ext cx="3483000" cy="1479600"/>
            <a:chOff x="2743200" y="2362320"/>
            <a:chExt cx="3483000" cy="1479600"/>
          </a:xfrm>
        </p:grpSpPr>
        <p:graphicFrame>
          <p:nvGraphicFramePr>
            <p:cNvPr id="303" name="Object 4"/>
            <p:cNvGraphicFramePr/>
            <p:nvPr/>
          </p:nvGraphicFramePr>
          <p:xfrm>
            <a:off x="2743200" y="2362320"/>
            <a:ext cx="3483000" cy="147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2362320"/>
                      <a:ext cx="3483000" cy="14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Rectangle 10"/>
            <p:cNvSpPr/>
            <p:nvPr/>
          </p:nvSpPr>
          <p:spPr>
            <a:xfrm>
              <a:off x="4114800" y="2705400"/>
              <a:ext cx="1295640" cy="282600"/>
            </a:xfrm>
            <a:prstGeom prst="rect">
              <a:avLst/>
            </a:prstGeom>
            <a:noFill/>
            <a:ln w="255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4191120" y="2716560"/>
              <a:ext cx="38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14"/>
            <p:cNvSpPr/>
            <p:nvPr/>
          </p:nvSpPr>
          <p:spPr>
            <a:xfrm>
              <a:off x="4191120" y="2644920"/>
              <a:ext cx="412920" cy="746280"/>
            </a:xfrm>
            <a:prstGeom prst="rect">
              <a:avLst/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5504040" y="3057840"/>
              <a:ext cx="628560" cy="261720"/>
            </a:xfrm>
            <a:prstGeom prst="rect">
              <a:avLst/>
            </a:prstGeom>
            <a:noFill/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00D-5277-4DB2-B34F-9007DF942A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-variable K-map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do four-variable expressions to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interms in the third and fourth columns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he third and fourth rows, are switched aroun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ain, this ensures that adjacent squares have common litera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ing minterms is similar to the three-variable case, bu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have rectangular groups of 1, 2, 4, 8 or 16 minter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wrap around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 f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d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4" name="Object 4"/>
          <p:cNvGraphicFramePr/>
          <p:nvPr/>
        </p:nvGraphicFramePr>
        <p:xfrm>
          <a:off x="5181480" y="2514600"/>
          <a:ext cx="3510000" cy="216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514600"/>
                    <a:ext cx="35100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6"/>
          <p:cNvGraphicFramePr/>
          <p:nvPr/>
        </p:nvGraphicFramePr>
        <p:xfrm>
          <a:off x="609480" y="2514600"/>
          <a:ext cx="4614840" cy="205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4600"/>
                    <a:ext cx="461484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788-7C99-433C-B690-8136CBDACC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 Simplify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expression is already a sum of minterms, so here’s the K-map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make the following groups, resulting in the MSP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x’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800" spc="-1" strike="noStrike">
                <a:solidFill>
                  <a:srgbClr val="999933"/>
                </a:solidFill>
                <a:latin typeface="Comic Sans MS"/>
              </a:rPr>
              <a:t>xy’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838080" y="1371600"/>
          <a:ext cx="2927520" cy="20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29275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6"/>
          <p:cNvGraphicFramePr/>
          <p:nvPr/>
        </p:nvGraphicFramePr>
        <p:xfrm>
          <a:off x="4419720" y="1371600"/>
          <a:ext cx="3660480" cy="19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3660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Group 36"/>
          <p:cNvGrpSpPr/>
          <p:nvPr/>
        </p:nvGrpSpPr>
        <p:grpSpPr>
          <a:xfrm>
            <a:off x="833400" y="4038480"/>
            <a:ext cx="2909880" cy="1957320"/>
            <a:chOff x="833400" y="4038480"/>
            <a:chExt cx="2909880" cy="1957320"/>
          </a:xfrm>
        </p:grpSpPr>
        <p:graphicFrame>
          <p:nvGraphicFramePr>
            <p:cNvPr id="328" name="Object 4"/>
            <p:cNvGraphicFramePr/>
            <p:nvPr/>
          </p:nvGraphicFramePr>
          <p:xfrm>
            <a:off x="833400" y="4038480"/>
            <a:ext cx="2909880" cy="195732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32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3400" y="4038480"/>
                      <a:ext cx="2909880" cy="19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0" name="Group 12"/>
            <p:cNvGrpSpPr/>
            <p:nvPr/>
          </p:nvGrpSpPr>
          <p:grpSpPr>
            <a:xfrm>
              <a:off x="1376280" y="4201920"/>
              <a:ext cx="380880" cy="380880"/>
              <a:chOff x="1376280" y="4201920"/>
              <a:chExt cx="380880" cy="380880"/>
            </a:xfrm>
          </p:grpSpPr>
          <p:sp>
            <p:nvSpPr>
              <p:cNvPr id="331" name="Line 8"/>
              <p:cNvSpPr/>
              <p:nvPr/>
            </p:nvSpPr>
            <p:spPr>
              <a:xfrm>
                <a:off x="1757160" y="420192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Line 11"/>
              <p:cNvSpPr/>
              <p:nvPr/>
            </p:nvSpPr>
            <p:spPr>
              <a:xfrm flipH="1">
                <a:off x="1376280" y="4582800"/>
                <a:ext cx="38088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3" name="Group 13"/>
            <p:cNvGrpSpPr/>
            <p:nvPr/>
          </p:nvGrpSpPr>
          <p:grpSpPr>
            <a:xfrm>
              <a:off x="2778120" y="4200480"/>
              <a:ext cx="380880" cy="380880"/>
              <a:chOff x="2778120" y="4200480"/>
              <a:chExt cx="380880" cy="380880"/>
            </a:xfrm>
          </p:grpSpPr>
          <p:sp>
            <p:nvSpPr>
              <p:cNvPr id="334" name="Line 14"/>
              <p:cNvSpPr/>
              <p:nvPr/>
            </p:nvSpPr>
            <p:spPr>
              <a:xfrm>
                <a:off x="2778120" y="420048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Line 15"/>
              <p:cNvSpPr/>
              <p:nvPr/>
            </p:nvSpPr>
            <p:spPr>
              <a:xfrm>
                <a:off x="2778120" y="4581360"/>
                <a:ext cx="38088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2778120" y="5273640"/>
              <a:ext cx="380880" cy="380880"/>
              <a:chOff x="2778120" y="5273640"/>
              <a:chExt cx="380880" cy="380880"/>
            </a:xfrm>
          </p:grpSpPr>
          <p:sp>
            <p:nvSpPr>
              <p:cNvPr id="337" name="Line 17"/>
              <p:cNvSpPr/>
              <p:nvPr/>
            </p:nvSpPr>
            <p:spPr>
              <a:xfrm flipV="1">
                <a:off x="2778120" y="527364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Line 18"/>
              <p:cNvSpPr/>
              <p:nvPr/>
            </p:nvSpPr>
            <p:spPr>
              <a:xfrm>
                <a:off x="2778120" y="5273640"/>
                <a:ext cx="38088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" name="Group 19"/>
            <p:cNvGrpSpPr/>
            <p:nvPr/>
          </p:nvGrpSpPr>
          <p:grpSpPr>
            <a:xfrm>
              <a:off x="1377720" y="5279760"/>
              <a:ext cx="380880" cy="380880"/>
              <a:chOff x="1377720" y="5279760"/>
              <a:chExt cx="380880" cy="380880"/>
            </a:xfrm>
          </p:grpSpPr>
          <p:sp>
            <p:nvSpPr>
              <p:cNvPr id="340" name="Line 20"/>
              <p:cNvSpPr/>
              <p:nvPr/>
            </p:nvSpPr>
            <p:spPr>
              <a:xfrm flipV="1">
                <a:off x="1758600" y="527976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Line 21"/>
              <p:cNvSpPr/>
              <p:nvPr/>
            </p:nvSpPr>
            <p:spPr>
              <a:xfrm flipH="1">
                <a:off x="1377720" y="5279760"/>
                <a:ext cx="38088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2" name="Rectangle 22"/>
            <p:cNvSpPr/>
            <p:nvPr/>
          </p:nvSpPr>
          <p:spPr>
            <a:xfrm>
              <a:off x="1882800" y="4670280"/>
              <a:ext cx="339480" cy="517320"/>
            </a:xfrm>
            <a:prstGeom prst="rect">
              <a:avLst/>
            </a:prstGeom>
            <a:noFill/>
            <a:ln w="255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37"/>
          <p:cNvGrpSpPr/>
          <p:nvPr/>
        </p:nvGrpSpPr>
        <p:grpSpPr>
          <a:xfrm>
            <a:off x="3962520" y="4038480"/>
            <a:ext cx="4543200" cy="1957680"/>
            <a:chOff x="3962520" y="4038480"/>
            <a:chExt cx="4543200" cy="1957680"/>
          </a:xfrm>
        </p:grpSpPr>
        <p:graphicFrame>
          <p:nvGraphicFramePr>
            <p:cNvPr id="344" name="Object 7"/>
            <p:cNvGraphicFramePr/>
            <p:nvPr/>
          </p:nvGraphicFramePr>
          <p:xfrm>
            <a:off x="3962520" y="4038480"/>
            <a:ext cx="4543200" cy="19576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34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4038480"/>
                      <a:ext cx="4543200" cy="19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6" name="Group 23"/>
            <p:cNvGrpSpPr/>
            <p:nvPr/>
          </p:nvGrpSpPr>
          <p:grpSpPr>
            <a:xfrm>
              <a:off x="7124760" y="5280120"/>
              <a:ext cx="837360" cy="380880"/>
              <a:chOff x="7124760" y="5280120"/>
              <a:chExt cx="837360" cy="380880"/>
            </a:xfrm>
          </p:grpSpPr>
          <p:sp>
            <p:nvSpPr>
              <p:cNvPr id="347" name="Line 24"/>
              <p:cNvSpPr/>
              <p:nvPr/>
            </p:nvSpPr>
            <p:spPr>
              <a:xfrm flipV="1">
                <a:off x="7124760" y="528012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25"/>
              <p:cNvSpPr/>
              <p:nvPr/>
            </p:nvSpPr>
            <p:spPr>
              <a:xfrm>
                <a:off x="7125120" y="5280120"/>
                <a:ext cx="83700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26"/>
            <p:cNvGrpSpPr/>
            <p:nvPr/>
          </p:nvGrpSpPr>
          <p:grpSpPr>
            <a:xfrm>
              <a:off x="4452480" y="5280120"/>
              <a:ext cx="837360" cy="380880"/>
              <a:chOff x="4452480" y="5280120"/>
              <a:chExt cx="837360" cy="380880"/>
            </a:xfrm>
          </p:grpSpPr>
          <p:sp>
            <p:nvSpPr>
              <p:cNvPr id="350" name="Line 27"/>
              <p:cNvSpPr/>
              <p:nvPr/>
            </p:nvSpPr>
            <p:spPr>
              <a:xfrm flipV="1">
                <a:off x="5289840" y="528012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28"/>
              <p:cNvSpPr/>
              <p:nvPr/>
            </p:nvSpPr>
            <p:spPr>
              <a:xfrm flipH="1">
                <a:off x="4452480" y="5280120"/>
                <a:ext cx="83700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29"/>
            <p:cNvGrpSpPr/>
            <p:nvPr/>
          </p:nvGrpSpPr>
          <p:grpSpPr>
            <a:xfrm>
              <a:off x="4450680" y="4216320"/>
              <a:ext cx="837360" cy="380880"/>
              <a:chOff x="4450680" y="4216320"/>
              <a:chExt cx="837360" cy="380880"/>
            </a:xfrm>
          </p:grpSpPr>
          <p:sp>
            <p:nvSpPr>
              <p:cNvPr id="353" name="Line 30"/>
              <p:cNvSpPr/>
              <p:nvPr/>
            </p:nvSpPr>
            <p:spPr>
              <a:xfrm>
                <a:off x="5288040" y="421632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31"/>
              <p:cNvSpPr/>
              <p:nvPr/>
            </p:nvSpPr>
            <p:spPr>
              <a:xfrm flipH="1">
                <a:off x="4450680" y="4597200"/>
                <a:ext cx="83700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" name="Group 32"/>
            <p:cNvGrpSpPr/>
            <p:nvPr/>
          </p:nvGrpSpPr>
          <p:grpSpPr>
            <a:xfrm>
              <a:off x="7121880" y="4216320"/>
              <a:ext cx="837360" cy="380880"/>
              <a:chOff x="7121880" y="4216320"/>
              <a:chExt cx="837360" cy="380880"/>
            </a:xfrm>
          </p:grpSpPr>
          <p:sp>
            <p:nvSpPr>
              <p:cNvPr id="356" name="Line 33"/>
              <p:cNvSpPr/>
              <p:nvPr/>
            </p:nvSpPr>
            <p:spPr>
              <a:xfrm>
                <a:off x="7121880" y="4216320"/>
                <a:ext cx="0" cy="38088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34"/>
              <p:cNvSpPr/>
              <p:nvPr/>
            </p:nvSpPr>
            <p:spPr>
              <a:xfrm>
                <a:off x="7121880" y="4597200"/>
                <a:ext cx="837360" cy="0"/>
              </a:xfrm>
              <a:prstGeom prst="line">
                <a:avLst/>
              </a:prstGeom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" name="Rectangle 35"/>
            <p:cNvSpPr/>
            <p:nvPr/>
          </p:nvSpPr>
          <p:spPr>
            <a:xfrm>
              <a:off x="5435280" y="4659480"/>
              <a:ext cx="772920" cy="542880"/>
            </a:xfrm>
            <a:prstGeom prst="rect">
              <a:avLst/>
            </a:prstGeom>
            <a:noFill/>
            <a:ln w="255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C17A-A093-4A79-81D7-70C0FCCA55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view: Standard forms of express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write expressions in many ways, but some ways are more useful than o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sum of products (SOP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xpression contain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ly OR (sum) operations at the “outermost”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erm that is summed must be a product of liter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0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dvantage is that any sum of products expression can be implemented using 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two-level circu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terals and their complements at the “0th”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gates at the first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ngle OR gate at the second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diagram uses some shorthand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gates are implic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terals are reu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kay in LogicWork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8440" y="251460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(x,y,z) = y’ + x’yz’ + x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5715000" y="4114800"/>
          <a:ext cx="254304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25430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8971-559E-47DD-B3AE-FCD9BC269E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-maps can be tricky!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may not necessarily be a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SP. The K-map below yields two valid and equivalent MSPs, because there are two possible ways to include minterm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ember that overlapping groups is possible, as shown abov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762120" y="1981080"/>
            <a:ext cx="7592400" cy="3111480"/>
            <a:chOff x="762120" y="1981080"/>
            <a:chExt cx="7592400" cy="3111480"/>
          </a:xfrm>
        </p:grpSpPr>
        <p:graphicFrame>
          <p:nvGraphicFramePr>
            <p:cNvPr id="365" name="Object 4"/>
            <p:cNvGraphicFramePr/>
            <p:nvPr/>
          </p:nvGraphicFramePr>
          <p:xfrm>
            <a:off x="2744640" y="1981080"/>
            <a:ext cx="3696840" cy="1363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4640" y="1981080"/>
                      <a:ext cx="3696840" cy="13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Text Box 13"/>
            <p:cNvSpPr/>
            <p:nvPr/>
          </p:nvSpPr>
          <p:spPr>
            <a:xfrm>
              <a:off x="2081880" y="472428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’z + yz’ + </a:t>
              </a:r>
              <a:r>
                <a:rPr b="0" lang="en-US" sz="1800" spc="-1" strike="noStrike">
                  <a:solidFill>
                    <a:srgbClr val="3333ff"/>
                  </a:solidFill>
                  <a:latin typeface="Comic Sans MS"/>
                </a:rPr>
                <a:t>x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14"/>
            <p:cNvSpPr/>
            <p:nvPr/>
          </p:nvSpPr>
          <p:spPr>
            <a:xfrm>
              <a:off x="6050520" y="4724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’z + yz’ + </a:t>
              </a:r>
              <a:r>
                <a:rPr b="0" lang="en-US" sz="1800" spc="-1" strike="noStrike">
                  <a:solidFill>
                    <a:srgbClr val="ff33cc"/>
                  </a:solidFill>
                  <a:latin typeface="Comic Sans MS"/>
                </a:rPr>
                <a:t>x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Line 19"/>
            <p:cNvSpPr/>
            <p:nvPr/>
          </p:nvSpPr>
          <p:spPr>
            <a:xfrm flipH="1">
              <a:off x="2896560" y="3047760"/>
              <a:ext cx="609480" cy="45720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Line 20"/>
            <p:cNvSpPr/>
            <p:nvPr/>
          </p:nvSpPr>
          <p:spPr>
            <a:xfrm>
              <a:off x="5868720" y="3047760"/>
              <a:ext cx="609480" cy="45720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1" name="Group 38"/>
            <p:cNvGrpSpPr/>
            <p:nvPr/>
          </p:nvGrpSpPr>
          <p:grpSpPr>
            <a:xfrm>
              <a:off x="4728960" y="3502080"/>
              <a:ext cx="3625560" cy="1388880"/>
              <a:chOff x="4728960" y="3502080"/>
              <a:chExt cx="3625560" cy="1388880"/>
            </a:xfrm>
          </p:grpSpPr>
          <p:graphicFrame>
            <p:nvGraphicFramePr>
              <p:cNvPr id="372" name="Object 6"/>
              <p:cNvGraphicFramePr/>
              <p:nvPr/>
            </p:nvGraphicFramePr>
            <p:xfrm>
              <a:off x="4728960" y="3502080"/>
              <a:ext cx="3625560" cy="138888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373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8960" y="3502080"/>
                        <a:ext cx="3625560" cy="138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4" name="Rectangle 33"/>
              <p:cNvSpPr/>
              <p:nvPr/>
            </p:nvSpPr>
            <p:spPr>
              <a:xfrm>
                <a:off x="6068520" y="3755880"/>
                <a:ext cx="649080" cy="668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>
                <a:off x="7487640" y="3752640"/>
                <a:ext cx="647280" cy="679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Rectangle 12"/>
              <p:cNvSpPr/>
              <p:nvPr/>
            </p:nvSpPr>
            <p:spPr>
              <a:xfrm>
                <a:off x="6087600" y="4124160"/>
                <a:ext cx="1329840" cy="238320"/>
              </a:xfrm>
              <a:prstGeom prst="rect">
                <a:avLst/>
              </a:prstGeom>
              <a:noFill/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7" name="Group 39"/>
            <p:cNvGrpSpPr/>
            <p:nvPr/>
          </p:nvGrpSpPr>
          <p:grpSpPr>
            <a:xfrm>
              <a:off x="762120" y="3502080"/>
              <a:ext cx="3625560" cy="1398240"/>
              <a:chOff x="762120" y="3502080"/>
              <a:chExt cx="3625560" cy="1398240"/>
            </a:xfrm>
          </p:grpSpPr>
          <p:graphicFrame>
            <p:nvGraphicFramePr>
              <p:cNvPr id="378" name="Object 5"/>
              <p:cNvGraphicFramePr/>
              <p:nvPr/>
            </p:nvGraphicFramePr>
            <p:xfrm>
              <a:off x="762120" y="3502080"/>
              <a:ext cx="3625560" cy="1398240"/>
            </p:xfrm>
            <a:graphic>
              <a:graphicData uri="http://schemas.openxmlformats.org/presentationml/2006/ole">
                <p:oleObj progId="Word.Document.12" r:id="rId5" spid="">
                  <p:embed/>
                  <p:pic>
                    <p:nvPicPr>
                      <p:cNvPr id="379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2120" y="3502080"/>
                        <a:ext cx="3625560" cy="139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80" name="Rectangle 7"/>
              <p:cNvSpPr/>
              <p:nvPr/>
            </p:nvSpPr>
            <p:spPr>
              <a:xfrm>
                <a:off x="2098440" y="3751200"/>
                <a:ext cx="649080" cy="668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3659040" y="3886200"/>
                <a:ext cx="3805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3517920" y="3757320"/>
                <a:ext cx="647280" cy="662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" name="Rectangle 11"/>
              <p:cNvSpPr/>
              <p:nvPr/>
            </p:nvSpPr>
            <p:spPr>
              <a:xfrm>
                <a:off x="2814480" y="4124160"/>
                <a:ext cx="1319040" cy="238320"/>
              </a:xfrm>
              <a:prstGeom prst="rect">
                <a:avLst/>
              </a:prstGeom>
              <a:noFill/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2F3-8AF1-4C7C-9023-B20957B8A8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rminology: Minterm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minter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special product of literals, in which each input variable appears exactly o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function with n variables has 2</a:t>
            </a:r>
            <a:r>
              <a:rPr b="0" lang="en-US" sz="1800" spc="-1" strike="noStrike" baseline="5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interms (since each variable can appear complemented or no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three-variable function, such as f(x,y,z), h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8 minterm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188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minterm is true for exactly one combination of input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94160" y="243828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’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’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’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’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447920" y="3505320"/>
            <a:ext cx="45720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ter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rue when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rth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’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0, y=0, z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’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0, y=0, z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0, y=1, z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y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0, y=1, z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’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1, y=0, z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’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1, y=0, z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z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1, y=1, z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1147680"/>
                <a:tab algn="l" pos="2909880"/>
                <a:tab algn="l" pos="331488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y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=1, y=1, z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020A-F8BB-4282-897E-E1A84CFF90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rminology: Sum of minterms for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function can be written as 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sum of minterm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which is a special kind of sum of products fo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um of minterms form for any function i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have a truth table for a function, you can write a sum of minterms expression just by picking out the rows of the table where the function output is 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914400" y="2971800"/>
          <a:ext cx="3405240" cy="31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340524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4592160" y="2971800"/>
            <a:ext cx="359604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= x’y’z’ + x’y’z + x’yz’ + x’yz + xyz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(0,1,2,3,6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95680" y="4191120"/>
            <a:ext cx="233856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’ = xy’z’ + xy’z + xy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(4,5,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508280" y="541008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’ contains all the minterms not in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EEB-A953-443E-820D-72B1708583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-arranging the truth tabl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two-variable function has four possible minterms. We can re-arrange these minterms into a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Karnaugh ma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w we can easily see which minterms contain common litera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terms on the left and right sides contain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y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spective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terms in the top and bottom rows contain </a:t>
            </a: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spective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Group 1060"/>
          <p:cNvGrpSpPr/>
          <p:nvPr/>
        </p:nvGrpSpPr>
        <p:grpSpPr>
          <a:xfrm>
            <a:off x="1828800" y="1676520"/>
            <a:ext cx="5530680" cy="1730160"/>
            <a:chOff x="1828800" y="1676520"/>
            <a:chExt cx="5530680" cy="1730160"/>
          </a:xfrm>
        </p:grpSpPr>
        <p:graphicFrame>
          <p:nvGraphicFramePr>
            <p:cNvPr id="122" name="Object 1031"/>
            <p:cNvGraphicFramePr/>
            <p:nvPr/>
          </p:nvGraphicFramePr>
          <p:xfrm>
            <a:off x="1828800" y="1676520"/>
            <a:ext cx="2315880" cy="1730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3" name="Object 10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676520"/>
                      <a:ext cx="2315880" cy="17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4" name="Group 1058"/>
            <p:cNvGrpSpPr/>
            <p:nvPr/>
          </p:nvGrpSpPr>
          <p:grpSpPr>
            <a:xfrm>
              <a:off x="5105160" y="1676520"/>
              <a:ext cx="2254320" cy="1495080"/>
              <a:chOff x="5105160" y="1676520"/>
              <a:chExt cx="2254320" cy="1495080"/>
            </a:xfrm>
          </p:grpSpPr>
          <p:graphicFrame>
            <p:nvGraphicFramePr>
              <p:cNvPr id="125" name="Object 1044"/>
              <p:cNvGraphicFramePr/>
              <p:nvPr/>
            </p:nvGraphicFramePr>
            <p:xfrm>
              <a:off x="5105160" y="1676520"/>
              <a:ext cx="2254320" cy="149508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126" name="Object 104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05160" y="1676520"/>
                        <a:ext cx="2254320" cy="1495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AutoShape 1045"/>
              <p:cNvSpPr/>
              <p:nvPr/>
            </p:nvSpPr>
            <p:spPr>
              <a:xfrm>
                <a:off x="5554440" y="2357280"/>
                <a:ext cx="152640" cy="60912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15840 h 609120"/>
                  <a:gd name="textAreaBottom" fmla="*/ 593280 h 60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AutoShape 1046"/>
              <p:cNvSpPr/>
              <p:nvPr/>
            </p:nvSpPr>
            <p:spPr>
              <a:xfrm rot="5400000">
                <a:off x="6544800" y="1442520"/>
                <a:ext cx="151920" cy="1219320"/>
              </a:xfrm>
              <a:custGeom>
                <a:avLst/>
                <a:gdLst>
                  <a:gd name="textAreaLeft" fmla="*/ 97200 w 151920"/>
                  <a:gd name="textAreaRight" fmla="*/ 152280 w 15192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" name="AutoShape 1051"/>
            <p:cNvSpPr/>
            <p:nvPr/>
          </p:nvSpPr>
          <p:spPr>
            <a:xfrm>
              <a:off x="4114800" y="2313000"/>
              <a:ext cx="838080" cy="456840"/>
            </a:xfrm>
            <a:prstGeom prst="rightArrow">
              <a:avLst>
                <a:gd name="adj1" fmla="val 45833"/>
                <a:gd name="adj2" fmla="val 75741"/>
              </a:avLst>
            </a:prstGeom>
            <a:gradFill rotWithShape="0">
              <a:gsLst>
                <a:gs pos="0">
                  <a:srgbClr val="6969d9"/>
                </a:gs>
                <a:gs pos="100000">
                  <a:srgbClr val="3333cc"/>
                </a:gs>
              </a:gsLst>
              <a:lin ang="0"/>
            </a:gradFill>
            <a:ln w="0">
              <a:noFill/>
            </a:ln>
            <a:effectLst>
              <a:outerShdw dist="40186" dir="430364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0" name="Group 1065"/>
          <p:cNvGrpSpPr/>
          <p:nvPr/>
        </p:nvGrpSpPr>
        <p:grpSpPr>
          <a:xfrm>
            <a:off x="1752480" y="4572000"/>
            <a:ext cx="5265720" cy="1520640"/>
            <a:chOff x="1752480" y="4572000"/>
            <a:chExt cx="5265720" cy="1520640"/>
          </a:xfrm>
        </p:grpSpPr>
        <p:grpSp>
          <p:nvGrpSpPr>
            <p:cNvPr id="131" name="Group 1052"/>
            <p:cNvGrpSpPr/>
            <p:nvPr/>
          </p:nvGrpSpPr>
          <p:grpSpPr>
            <a:xfrm>
              <a:off x="1752480" y="4572000"/>
              <a:ext cx="2297160" cy="1520640"/>
              <a:chOff x="1752480" y="4572000"/>
              <a:chExt cx="2297160" cy="1520640"/>
            </a:xfrm>
          </p:grpSpPr>
          <p:graphicFrame>
            <p:nvGraphicFramePr>
              <p:cNvPr id="132" name="Object 1053"/>
              <p:cNvGraphicFramePr/>
              <p:nvPr/>
            </p:nvGraphicFramePr>
            <p:xfrm>
              <a:off x="1752480" y="4572000"/>
              <a:ext cx="2297160" cy="1520640"/>
            </p:xfrm>
            <a:graphic>
              <a:graphicData uri="http://schemas.openxmlformats.org/presentationml/2006/ole">
                <p:oleObj progId="Word.Document.12" r:id="rId5" spid="">
                  <p:embed/>
                  <p:pic>
                    <p:nvPicPr>
                      <p:cNvPr id="133" name="Object 105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52480" y="4572000"/>
                        <a:ext cx="2297160" cy="152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" name="AutoShape 1054"/>
              <p:cNvSpPr/>
              <p:nvPr/>
            </p:nvSpPr>
            <p:spPr>
              <a:xfrm>
                <a:off x="2203560" y="5257440"/>
                <a:ext cx="152280" cy="60948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AutoShape 1055"/>
              <p:cNvSpPr/>
              <p:nvPr/>
            </p:nvSpPr>
            <p:spPr>
              <a:xfrm rot="5400000">
                <a:off x="3194280" y="4343040"/>
                <a:ext cx="151920" cy="1218960"/>
              </a:xfrm>
              <a:custGeom>
                <a:avLst/>
                <a:gdLst>
                  <a:gd name="textAreaLeft" fmla="*/ 97200 w 151920"/>
                  <a:gd name="textAreaRight" fmla="*/ 152280 w 15192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136" name="Object 1059"/>
            <p:cNvGraphicFramePr/>
            <p:nvPr/>
          </p:nvGraphicFramePr>
          <p:xfrm>
            <a:off x="5122800" y="4976640"/>
            <a:ext cx="1895400" cy="10749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37" name="Object 105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22800" y="4976640"/>
                      <a:ext cx="1895400" cy="10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65E-F1F4-4044-9CFE-621ADF05FD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arnaugh map simplific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ine a two-variable sum of minterm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’ + x’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of these minterms appear in the top row of a Karnaugh map, which means that they both contain the literal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s if you simplify this expression using Boolean algebra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028"/>
          <p:cNvSpPr/>
          <p:nvPr/>
        </p:nvSpPr>
        <p:spPr>
          <a:xfrm>
            <a:off x="2480400" y="4648320"/>
            <a:ext cx="420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’ + x’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x’(y’ + 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Distributive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03176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x’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y + y’ = 1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03176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 = x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1033"/>
          <p:cNvGrpSpPr/>
          <p:nvPr/>
        </p:nvGrpSpPr>
        <p:grpSpPr>
          <a:xfrm>
            <a:off x="3657600" y="2743200"/>
            <a:ext cx="1913040" cy="1065240"/>
            <a:chOff x="3657600" y="2743200"/>
            <a:chExt cx="1913040" cy="1065240"/>
          </a:xfrm>
        </p:grpSpPr>
        <p:graphicFrame>
          <p:nvGraphicFramePr>
            <p:cNvPr id="145" name="Object 1029"/>
            <p:cNvGraphicFramePr/>
            <p:nvPr/>
          </p:nvGraphicFramePr>
          <p:xfrm>
            <a:off x="3657600" y="2743200"/>
            <a:ext cx="1913040" cy="1065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6" name="Object 10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2743200"/>
                      <a:ext cx="1913040" cy="10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Rectangle 1030"/>
            <p:cNvSpPr/>
            <p:nvPr/>
          </p:nvSpPr>
          <p:spPr>
            <a:xfrm>
              <a:off x="4246560" y="3068640"/>
              <a:ext cx="1101600" cy="235080"/>
            </a:xfrm>
            <a:prstGeom prst="rect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282D-40C6-4EFE-9A57-F29B5A5C0F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re two-variable exam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other example expression is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 + x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minterms appear in the right side, where y is uncomplemen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us, we can reduce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 + x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just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about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’ + x’y + x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’ + x’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he top row, corresponding to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’s also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 + x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he right side, corresponding to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whole expression can be reduced to 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x’ + 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3581280" y="1981080"/>
            <a:ext cx="1922400" cy="1074960"/>
            <a:chOff x="3581280" y="1981080"/>
            <a:chExt cx="1922400" cy="1074960"/>
          </a:xfrm>
        </p:grpSpPr>
        <p:graphicFrame>
          <p:nvGraphicFramePr>
            <p:cNvPr id="154" name="Object 4"/>
            <p:cNvGraphicFramePr/>
            <p:nvPr/>
          </p:nvGraphicFramePr>
          <p:xfrm>
            <a:off x="3581280" y="1981080"/>
            <a:ext cx="1922400" cy="1074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981080"/>
                      <a:ext cx="1922400" cy="10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Rectangle 5"/>
            <p:cNvSpPr/>
            <p:nvPr/>
          </p:nvSpPr>
          <p:spPr>
            <a:xfrm>
              <a:off x="4781160" y="2301840"/>
              <a:ext cx="462240" cy="542880"/>
            </a:xfrm>
            <a:prstGeom prst="rect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16"/>
          <p:cNvGrpSpPr/>
          <p:nvPr/>
        </p:nvGrpSpPr>
        <p:grpSpPr>
          <a:xfrm>
            <a:off x="3581280" y="4724280"/>
            <a:ext cx="1914480" cy="1065240"/>
            <a:chOff x="3581280" y="4724280"/>
            <a:chExt cx="1914480" cy="1065240"/>
          </a:xfrm>
        </p:grpSpPr>
        <p:graphicFrame>
          <p:nvGraphicFramePr>
            <p:cNvPr id="158" name="Object 8"/>
            <p:cNvGraphicFramePr/>
            <p:nvPr/>
          </p:nvGraphicFramePr>
          <p:xfrm>
            <a:off x="3581280" y="4724280"/>
            <a:ext cx="1914480" cy="1065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5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4724280"/>
                      <a:ext cx="1914480" cy="10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Rectangle 9"/>
            <p:cNvSpPr/>
            <p:nvPr/>
          </p:nvSpPr>
          <p:spPr>
            <a:xfrm>
              <a:off x="4859280" y="5038560"/>
              <a:ext cx="338040" cy="546120"/>
            </a:xfrm>
            <a:prstGeom prst="rect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4179960" y="5070600"/>
              <a:ext cx="1081080" cy="207720"/>
            </a:xfrm>
            <a:prstGeom prst="rect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5AE-FF82-413C-BA70-56A3A93D53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three-variable Karnaugh ma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a three-variable expression with inputs x, y, z, the arrangement of minterms is more trick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other way to label the K-map (use whichever you like)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Object 0"/>
          <p:cNvGraphicFramePr/>
          <p:nvPr/>
        </p:nvGraphicFramePr>
        <p:xfrm>
          <a:off x="988920" y="4113360"/>
          <a:ext cx="3608640" cy="145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4113360"/>
                    <a:ext cx="360864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"/>
          <p:cNvGraphicFramePr/>
          <p:nvPr/>
        </p:nvGraphicFramePr>
        <p:xfrm>
          <a:off x="5410080" y="4114800"/>
          <a:ext cx="2865600" cy="14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114800"/>
                    <a:ext cx="286560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"/>
          <p:cNvGraphicFramePr/>
          <p:nvPr/>
        </p:nvGraphicFramePr>
        <p:xfrm>
          <a:off x="609480" y="1676520"/>
          <a:ext cx="4046760" cy="1346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676520"/>
                    <a:ext cx="40467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3"/>
          <p:cNvGraphicFramePr/>
          <p:nvPr/>
        </p:nvGraphicFramePr>
        <p:xfrm>
          <a:off x="5029200" y="1676520"/>
          <a:ext cx="3371760" cy="138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1676520"/>
                    <a:ext cx="337176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bruary 2,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7432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 2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D98-FB9A-4EF2-AC98-4423FC9008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 the funny ordering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this ordering, any group of 2, 4 or 8 adjacent squares on the map contains common literals that can be factored ou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jacency” includes wrapping around the left and right sid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ll use this property of adjacent squares to do our simplific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137920" y="167652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33"/>
                </a:solidFill>
                <a:latin typeface="Comic Sans MS"/>
              </a:rPr>
              <a:t>x’y’z + x’y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4128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z(y’ + 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4128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4128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’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029200" y="35812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40176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x’y’z’ + xy’z’ + x’yz’ + xyz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40176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(x’y’ + xy’ + x’y + x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40176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(y’(x’ + x) + y(x’ + x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40176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(y’+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40176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21"/>
          <p:cNvGrpSpPr/>
          <p:nvPr/>
        </p:nvGrpSpPr>
        <p:grpSpPr>
          <a:xfrm>
            <a:off x="1066680" y="1676520"/>
            <a:ext cx="3608640" cy="1458720"/>
            <a:chOff x="1066680" y="1676520"/>
            <a:chExt cx="3608640" cy="1458720"/>
          </a:xfrm>
        </p:grpSpPr>
        <p:graphicFrame>
          <p:nvGraphicFramePr>
            <p:cNvPr id="183" name="Object 1"/>
            <p:cNvGraphicFramePr/>
            <p:nvPr/>
          </p:nvGraphicFramePr>
          <p:xfrm>
            <a:off x="1066680" y="1676520"/>
            <a:ext cx="3608640" cy="1458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4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676520"/>
                      <a:ext cx="3608640" cy="14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Rectangle 10"/>
            <p:cNvSpPr/>
            <p:nvPr/>
          </p:nvSpPr>
          <p:spPr>
            <a:xfrm>
              <a:off x="2411280" y="2009880"/>
              <a:ext cx="1303560" cy="226800"/>
            </a:xfrm>
            <a:prstGeom prst="rect">
              <a:avLst/>
            </a:prstGeom>
            <a:noFill/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1066680" y="3657600"/>
            <a:ext cx="3608640" cy="1459080"/>
            <a:chOff x="1066680" y="3657600"/>
            <a:chExt cx="3608640" cy="1459080"/>
          </a:xfrm>
        </p:grpSpPr>
        <p:graphicFrame>
          <p:nvGraphicFramePr>
            <p:cNvPr id="187" name="Object 0"/>
            <p:cNvGraphicFramePr/>
            <p:nvPr/>
          </p:nvGraphicFramePr>
          <p:xfrm>
            <a:off x="1066680" y="3657600"/>
            <a:ext cx="3608640" cy="14590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8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657600"/>
                      <a:ext cx="3608640" cy="14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9" name="Group 14"/>
            <p:cNvGrpSpPr/>
            <p:nvPr/>
          </p:nvGrpSpPr>
          <p:grpSpPr>
            <a:xfrm>
              <a:off x="1521000" y="3992400"/>
              <a:ext cx="780840" cy="519120"/>
              <a:chOff x="1521000" y="3992400"/>
              <a:chExt cx="780840" cy="519120"/>
            </a:xfrm>
          </p:grpSpPr>
          <p:sp>
            <p:nvSpPr>
              <p:cNvPr id="190" name="Line 11"/>
              <p:cNvSpPr/>
              <p:nvPr/>
            </p:nvSpPr>
            <p:spPr>
              <a:xfrm>
                <a:off x="1521000" y="3992400"/>
                <a:ext cx="768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Line 12"/>
              <p:cNvSpPr/>
              <p:nvPr/>
            </p:nvSpPr>
            <p:spPr>
              <a:xfrm>
                <a:off x="1533600" y="4511520"/>
                <a:ext cx="768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13"/>
              <p:cNvSpPr/>
              <p:nvPr/>
            </p:nvSpPr>
            <p:spPr>
              <a:xfrm>
                <a:off x="2278080" y="3997440"/>
                <a:ext cx="7920" cy="50616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19"/>
            <p:cNvGrpSpPr/>
            <p:nvPr/>
          </p:nvGrpSpPr>
          <p:grpSpPr>
            <a:xfrm>
              <a:off x="3816360" y="3995640"/>
              <a:ext cx="772920" cy="519120"/>
              <a:chOff x="3816360" y="3995640"/>
              <a:chExt cx="772920" cy="519120"/>
            </a:xfrm>
          </p:grpSpPr>
          <p:sp>
            <p:nvSpPr>
              <p:cNvPr id="194" name="Line 16"/>
              <p:cNvSpPr/>
              <p:nvPr/>
            </p:nvSpPr>
            <p:spPr>
              <a:xfrm flipH="1">
                <a:off x="3816360" y="3995640"/>
                <a:ext cx="768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7"/>
              <p:cNvSpPr/>
              <p:nvPr/>
            </p:nvSpPr>
            <p:spPr>
              <a:xfrm flipH="1">
                <a:off x="3821040" y="4514760"/>
                <a:ext cx="768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8"/>
              <p:cNvSpPr/>
              <p:nvPr/>
            </p:nvSpPr>
            <p:spPr>
              <a:xfrm>
                <a:off x="3827520" y="4000680"/>
                <a:ext cx="1440" cy="50616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7:32:08Z</dcterms:created>
  <dc:creator>Howard Huang</dc:creator>
  <dc:description>©2000-2002 Howard Huang</dc:description>
  <dc:language>en-US</dc:language>
  <cp:lastModifiedBy>IB</cp:lastModifiedBy>
  <cp:lastPrinted>2002-06-02T16:46:34Z</cp:lastPrinted>
  <dcterms:modified xsi:type="dcterms:W3CDTF">2010-03-29T01:44:58Z</dcterms:modified>
  <cp:revision>63</cp:revision>
  <dc:subject>CS231 @ UIUC</dc:subject>
  <dc:title>Karnaugh Maps</dc:title>
</cp:coreProperties>
</file>