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A191D7-4C30-427F-9A5E-86759319FE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798ED1-83A5-4849-B56F-0FD5332C7D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AED1E5-0E43-4F1E-86C7-249EF0A41E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16B474-10D4-4C53-A011-FA0F750ECC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F3A12B-2F0C-46FB-803A-78CF861EA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lso have lower power requirements than the standard T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284967-0B75-42B4-8F2C-13AC436004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lso have lower power requirements than the standard T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1C492C-B892-41E1-B7FB-2D9F7B188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lso have lower power requirements than the standard T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0350E1-10DC-42C8-BB8A-AFCE36BC9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lso have lower power requirements than the standard T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D513E2-06B1-4BD1-94D4-CB5D47FB9F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lso have lower power requirements than the standard T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672192-482F-4B19-A358-913DE6DAF8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lso have lower power requirements than the standard T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580FF4-A1D9-4DAA-B8BE-1C6318179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lso have lower power requirements than the standard T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40CC20-2ED4-47B9-8F60-215CE21F9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lso have lower power requirements than the standard T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0615AC-20D3-44D6-94FC-89E6E51902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TL had economic advantage in that very few transistors were used. It was important when transistors were expensive to make (more expensive than resistors). Such times have long p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A60972-B690-4081-A115-03648DFAB2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TL had economic advantage in that very few transistors were used. It was important when transistors were expensive to make (more expensive than resistors). Such times have long p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33568C-3FCB-4FB8-8661-254495C42E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: high-level output voltage (OH), low-level output voltage (OL), high-level input voltage (IH), low-level input voltage (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CC4961-D9D6-4D8E-90AE-666E63C0D6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82D274-A371-4184-AC6C-970BAB2F84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C9D-5E59-4572-AD51-CF16069C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3FAC-7D3C-4FD7-9071-104E1545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8952-AB5A-4275-8918-7446FAC2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6057-5CDE-448E-A4C8-6C3F82FA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0A1-5BBD-4DDC-B3D4-7595F13C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FA5-90CB-48AE-AF54-F8E7FD98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04B2-B55D-49DA-85F9-D2161ED1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FE8D-4A99-4C21-9B6A-F8607B2F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76DA-6046-4EFB-9367-00FDBAC6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88A-901E-4713-983C-B0C22DAA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CB2-CA36-4A75-81C9-C150FDF9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873-7012-4C8B-B9EA-B3729DF4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ABEF-C59B-4BE8-9D63-B81CB06FF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igital Logic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3360/AEP36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2114640" y="838080"/>
            <a:ext cx="4895640" cy="1427400"/>
          </a:xfrm>
          <a:prstGeom prst="rect">
            <a:avLst/>
          </a:prstGeom>
          <a:ln w="0">
            <a:noFill/>
          </a:ln>
        </p:spPr>
      </p:pic>
      <p:sp>
        <p:nvSpPr>
          <p:cNvPr id="5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448C-B2A2-4A70-89A1-294A13376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ogic families: propagation de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318960" y="1066680"/>
            <a:ext cx="8506080" cy="1943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3851280" y="2603520"/>
            <a:ext cx="117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PD,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5848200" y="2606760"/>
            <a:ext cx="131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PD,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380880" y="33526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D,H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input-to-output propagation delay from HI to LO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D,L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input-to-output propagation delay from LO to HI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384120" y="47242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eed-power 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CA0D-50FA-4475-8592-E5288850A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ogic families: noise mar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685800" y="1324080"/>
            <a:ext cx="3105000" cy="5000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2040120" y="3979800"/>
            <a:ext cx="48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N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2073960" y="4844880"/>
            <a:ext cx="473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N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4754520" y="1260360"/>
            <a:ext cx="35686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 state noise mar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n)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 state noise mar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x)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e mar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min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A413-DC01-4222-BD67-88585D97F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T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4386240" y="2352600"/>
            <a:ext cx="4681440" cy="38196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5862240" y="609588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-input N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04920" y="1079640"/>
            <a:ext cx="815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ipolar Transistor-Transistor Logic (TT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troduced by in 1964 (Texas Instru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L has shaped digital technology in many 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TTL family (e.g. 7400) is obso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er TTL families sti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used (e.g. 74ALS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304920" y="3975120"/>
            <a:ext cx="4647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tinct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emitter transis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em-pole transistor arran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en LTspice example:                TTL NAN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E18C-6430-4F3E-926E-33A4607E4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TL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1079640"/>
            <a:ext cx="81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chottky series (74LS00) TT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ajor slowdown factor in BJTs is due to transistors going in/out of sat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ttky diode has a lower forward bias (0.25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BC junction would become forward biased, the Schottky diode bypasses the current preventing the transistor from going into sat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2181240" y="4619520"/>
            <a:ext cx="4797360" cy="193356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16B4-D63A-4D4B-B5BA-A9F9EEDDC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TL family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311040" y="1406520"/>
            <a:ext cx="8520120" cy="40449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228600" y="1371600"/>
            <a:ext cx="2666880" cy="41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28600" y="5578560"/>
            <a:ext cx="26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gacy: don’t use in new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200400" y="2819520"/>
            <a:ext cx="5715000" cy="2666880"/>
          </a:xfrm>
          <a:prstGeom prst="rect">
            <a:avLst/>
          </a:prstGeom>
          <a:noFill/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184560" y="5578560"/>
            <a:ext cx="54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idely used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F78B-5800-457E-AEE5-9388C3CE6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304920" y="107964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mitter-Coupled Logic (EC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astest logic family available (~1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ow noise margin and high power diss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ed in emitter coupled geometry (recall differential amplifier or emitter-follower), transistors are biased and operate near their Q-point (never near saturation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 levels. “0”: –1.7V. “1”: –0.8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strange logic levels require extra effort when interfacing to TTL/CMOS logic famil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en LTspice example: ECL inverte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FC3D-D4BC-4822-8960-6302022B6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04920" y="1079640"/>
            <a:ext cx="8610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limentary MOS (CM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variants: NMOS, PMOS (obsole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low static power con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ing capabilities (large integration all M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swing: rail-to-rail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ings to watch out 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leave inputs floating (in TTL these will float to HI, in CMOS you get undefined behaviou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ceptible to electrostatic damage (finger of de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en LTspice example: CMOS NOT and NAN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4BE8-FAEE-458E-AFCF-3655E63CE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MOS/TTL power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07964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L power essentially constant (no frequency depen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OS power scales 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high frequencies (&gt;&gt; MHz) CMOS dissipates more power than TT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advantage is still for CMOS even for very fast chips – only a relatively small portion of complicated circuitry operates at highest frequ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"/>
          <p:cNvSpPr/>
          <p:nvPr/>
        </p:nvSpPr>
        <p:spPr>
          <a:xfrm flipV="1">
            <a:off x="4191120" y="2453760"/>
            <a:ext cx="2127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429000" y="2666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5943600" y="25909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 vo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"/>
          <p:cNvSpPr/>
          <p:nvPr/>
        </p:nvSpPr>
        <p:spPr>
          <a:xfrm flipH="1" flipV="1">
            <a:off x="5714640" y="2437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 flipH="1" flipV="1">
            <a:off x="5105520" y="2438280"/>
            <a:ext cx="3045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975560" y="295596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. capac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D713-656A-470C-B544-116F5DB50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MOS family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01280" cy="48484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108000" y="1235160"/>
            <a:ext cx="2178000" cy="21938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136440" y="8031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bso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2666880" y="1857240"/>
            <a:ext cx="61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tion of dynamic losses through successively decreasing supply voltages: 12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.3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.5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.8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D4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VC/ALVC/A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reduction is one of the keys to progressive growth of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2653200" y="1436760"/>
            <a:ext cx="24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D05E-2E98-4066-AA4E-815264A1D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4" descr=""/>
          <p:cNvPicPr/>
          <p:nvPr/>
        </p:nvPicPr>
        <p:blipFill>
          <a:blip r:embed="rId1"/>
          <a:stretch/>
        </p:blipFill>
        <p:spPr>
          <a:xfrm>
            <a:off x="92160" y="901800"/>
            <a:ext cx="8915400" cy="44323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900000" y="1936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11"/>
          <p:cNvSpPr/>
          <p:nvPr/>
        </p:nvSpPr>
        <p:spPr>
          <a:xfrm>
            <a:off x="152280" y="3382920"/>
            <a:ext cx="990720" cy="1874880"/>
          </a:xfrm>
          <a:prstGeom prst="wedgeRoundRectCallout">
            <a:avLst>
              <a:gd name="adj1" fmla="val -34453"/>
              <a:gd name="adj2" fmla="val 73541"/>
              <a:gd name="adj3" fmla="val 16667"/>
            </a:avLst>
          </a:prstGeom>
          <a:noFill/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228600" y="974880"/>
            <a:ext cx="94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20520" y="57150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1295280" y="5332320"/>
            <a:ext cx="7720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s typical for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5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interfacing different families, pay attention to their input/output voltage, current (fanout) spe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152280" y="1692360"/>
            <a:ext cx="914400" cy="1369800"/>
          </a:xfrm>
          <a:prstGeom prst="wedgeRoundRectCallout">
            <a:avLst>
              <a:gd name="adj1" fmla="val 50694"/>
              <a:gd name="adj2" fmla="val -117902"/>
              <a:gd name="adj3" fmla="val 16667"/>
            </a:avLst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1581120" y="1066680"/>
            <a:ext cx="6572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P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rise/fa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H,mi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V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L,max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V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OH,mi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V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OL,max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7910280" y="97488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r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C90D-DFC6-4F6C-B85C-731134650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52280" y="11430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, Moore’s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families (DL, RT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olution of TTL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OS family and its 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5DAF-6622-4320-93AE-50EF34BF4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ife-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2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2532240"/>
          </a:xfrm>
          <a:prstGeom prst="rect">
            <a:avLst/>
          </a:prstGeom>
          <a:ln w="0">
            <a:noFill/>
          </a:ln>
        </p:spPr>
      </p:pic>
      <p:sp>
        <p:nvSpPr>
          <p:cNvPr id="1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F7A1-F4C4-4F83-8E82-7B7989831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tegration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76320" y="11430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te/transistor ratio is roughly 1/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12 gates/c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100 gates/c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S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1K gates/c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LS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10K gates/c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LS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100K gates/c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1Meg gates/c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6067440" y="1733400"/>
            <a:ext cx="2238480" cy="177192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8962-4991-42C3-9A84-C0593C32D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oore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6320" y="11430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ediction made by Moore (a co-founder of Intel) in 1965: “… a number of transistors to double every 2 year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219320" y="2459160"/>
            <a:ext cx="6705360" cy="3833640"/>
          </a:xfrm>
          <a:prstGeom prst="rect">
            <a:avLst/>
          </a:prstGeom>
          <a:ln w="0">
            <a:noFill/>
          </a:ln>
        </p:spPr>
      </p:pic>
      <p:sp>
        <p:nvSpPr>
          <p:cNvPr id="6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95EF-3208-4DF8-8AD8-00D38C0DA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 the beginning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5877000" y="1143000"/>
            <a:ext cx="3114720" cy="20955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304920" y="1141560"/>
            <a:ext cx="396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ode Logic (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st; does not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not possible (need an active e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5598720" y="2057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2971800" cy="3133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3"/>
          <a:stretch/>
        </p:blipFill>
        <p:spPr>
          <a:xfrm>
            <a:off x="4302000" y="5010120"/>
            <a:ext cx="1143000" cy="704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4"/>
          <p:cNvSpPr/>
          <p:nvPr/>
        </p:nvSpPr>
        <p:spPr>
          <a:xfrm>
            <a:off x="5598720" y="50864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6" descr=""/>
          <p:cNvPicPr/>
          <p:nvPr/>
        </p:nvPicPr>
        <p:blipFill>
          <a:blip r:embed="rId4">
            <a:lum contrast="100000"/>
          </a:blip>
          <a:stretch/>
        </p:blipFill>
        <p:spPr>
          <a:xfrm>
            <a:off x="4334040" y="1905120"/>
            <a:ext cx="1152360" cy="685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7"/>
          <p:cNvSpPr/>
          <p:nvPr/>
        </p:nvSpPr>
        <p:spPr>
          <a:xfrm>
            <a:off x="304920" y="3429000"/>
            <a:ext cx="3809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istor-Transistor Logic (RT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diode switch with a transistor 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casc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power dr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5153-BFD2-43D4-B410-3EB091C91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a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590840" y="4248000"/>
            <a:ext cx="1143000" cy="704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2887560" y="4324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04920" y="107964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ode-Transistor Logic (DT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ly diode logic with transistor ampl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power con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er than RT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3267000" y="3124080"/>
            <a:ext cx="4429080" cy="28958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3276720" y="3200400"/>
            <a:ext cx="2971800" cy="266688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3274560" y="594216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  AND 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6251040" y="586584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ng inve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6324480" y="3200400"/>
            <a:ext cx="1447920" cy="266688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A398-F7CE-4637-96D5-1E889E678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9"/>
          <p:cNvSpPr/>
          <p:nvPr/>
        </p:nvSpPr>
        <p:spPr>
          <a:xfrm>
            <a:off x="7632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n) – The minimum voltage level at an output in the logical “1” state under defined loa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x) – The maximum voltage level at an output in the logical “0” state under defined loa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n) – The minimum voltage required at an input to be recognized as “1” logic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x) – The maximum voltage required at an input that still will be recognized as “0” logic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ogic families: V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6" descr=""/>
          <p:cNvPicPr/>
          <p:nvPr/>
        </p:nvPicPr>
        <p:blipFill>
          <a:blip r:embed="rId1"/>
          <a:stretch/>
        </p:blipFill>
        <p:spPr>
          <a:xfrm>
            <a:off x="914400" y="4343400"/>
            <a:ext cx="7867800" cy="2462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7"/>
          <p:cNvSpPr/>
          <p:nvPr/>
        </p:nvSpPr>
        <p:spPr>
          <a:xfrm>
            <a:off x="2421720" y="5916600"/>
            <a:ext cx="57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3744360" y="5913360"/>
            <a:ext cx="49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I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5501520" y="595944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0"/>
          <p:cNvSpPr/>
          <p:nvPr/>
        </p:nvSpPr>
        <p:spPr>
          <a:xfrm>
            <a:off x="6757200" y="5956200"/>
            <a:ext cx="48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1B65-44E9-4C8A-B0AE-46264E49B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76320" y="11430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urrent flowing into an output in the logical “1” state under specified loa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urrent flowing into an output in the logical “0” state under specified loa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urrent flowing into an input when a specified HI level is applied to that 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urrent flowing into an input when a specified LO level is applied to tha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ogic families: I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914400" y="4343400"/>
            <a:ext cx="7867800" cy="24620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2421720" y="5916600"/>
            <a:ext cx="57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744360" y="5913360"/>
            <a:ext cx="49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500440" y="5959440"/>
            <a:ext cx="54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756120" y="5956200"/>
            <a:ext cx="47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232360" y="5105520"/>
            <a:ext cx="471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972600" y="5105520"/>
            <a:ext cx="398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I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241960" y="510552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982200" y="5105520"/>
            <a:ext cx="381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7486-30AC-42F3-9F1A-187527868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76320" y="11430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nout: the maximum number of logic inputs (of the same logic family) that an output can drive relia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ogic families: fan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3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81440" y="2409840"/>
            <a:ext cx="3381120" cy="3381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4"/>
          <p:cNvSpPr/>
          <p:nvPr/>
        </p:nvSpPr>
        <p:spPr>
          <a:xfrm>
            <a:off x="738000" y="5334120"/>
            <a:ext cx="40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C fan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min(        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5"/>
              <p:cNvSpPr txBox="1"/>
              <p:nvPr/>
            </p:nvSpPr>
            <p:spPr>
              <a:xfrm>
                <a:off x="3200400" y="5137200"/>
                <a:ext cx="13273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H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6219-B4B4-4C72-820D-052DB781E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11-03-13T20:37:57Z</dcterms:modified>
  <cp:revision>119</cp:revision>
  <dc:subject/>
  <dc:title>PowerPoint Presentation</dc:title>
</cp:coreProperties>
</file>